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1F32-12B8-48EA-B2BE-B19C73C15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14EB-4A08-45EE-8CE3-F667ADB52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F6BC-1D0D-4A15-914B-02923A9E1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01D5-ED40-4A66-80D8-4C4224162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9E38E-E2B3-4154-AD62-1207A8F1E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C47D4-9DB7-4354-B451-042C5CFFB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37F25-3642-47B5-9B09-C73189B43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34FB0-1AA4-4E8D-8D4E-63A5ED958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E92D4-AA95-4D0C-B8D3-234D01DCB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63B79-5ADB-4D59-9B95-4451F59FD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43965-4280-4154-982E-E1BF560F2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7388-A5A3-41A4-A9B9-9E51AD71C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1B58C-AE12-42E0-B665-3AAB55DED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6238C-C4F2-46EF-88BA-2DD31CEB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10464-B93E-4F9C-B26D-AC48C1D04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CED06-53E1-4CDC-8287-CD5E8FAC3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55A89-E5BB-453E-B996-F1995BB6B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549D-558E-4E4E-B02B-EA4EAB42A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8A66-B68F-48EF-8AA3-F27A83E13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C5F8-AD2E-4929-81D1-42C35945F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BB41-5800-488B-9126-B2A3BD29B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3FFB-F0E4-45EE-80F9-6FF5920B3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6F07-2219-4A7C-A39C-AEB6BDAC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C02F-93F6-46BA-90F4-040E0BDAD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E382C-C45E-4C46-BBB7-A630CADE1E7B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8201F-5709-4971-B2F0-8C60C448322C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61920" y="1523520"/>
            <a:ext cx="77724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996633"/>
                </a:solidFill>
                <a:latin typeface="Tahoma"/>
              </a:rPr>
              <a:t>GIVE US A KING”</a:t>
            </a:r>
            <a:br>
              <a:rPr sz="4000"/>
            </a:br>
            <a:r>
              <a:rPr b="0" lang="en-US" sz="4000" spc="-1" strike="noStrike">
                <a:solidFill>
                  <a:srgbClr val="996633"/>
                </a:solidFill>
                <a:latin typeface="Tahoma"/>
              </a:rPr>
              <a:t>The United Kingdom, Part 2</a:t>
            </a: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Quarter 4, Lesson 9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1 Kings 2, Pages 110-114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ahoma"/>
              </a:rPr>
              <a:t>David’s Charge to Solomon</a:t>
            </a:r>
            <a:br>
              <a:rPr sz="4000"/>
            </a:br>
            <a:r>
              <a:rPr b="0" lang="en-US" sz="2800" spc="-1" strike="noStrike">
                <a:solidFill>
                  <a:srgbClr val="996633"/>
                </a:solidFill>
                <a:latin typeface="Tahoma"/>
              </a:rPr>
              <a:t>1 Kings 2:1-9</a:t>
            </a:r>
            <a:endParaRPr b="0" lang="en-US" sz="28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Be strong and courageous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Obey the Lord’s commandments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David’s advice concerning: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ce99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Joab; do not let him go to the grave in peace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ce99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Barzillai; show kindness to his sons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ce99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Shimei; bring him down to the grave in blood 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ahoma"/>
              </a:rPr>
              <a:t>The Death of David</a:t>
            </a:r>
            <a:br>
              <a:rPr sz="4000"/>
            </a:br>
            <a:r>
              <a:rPr b="0" lang="en-US" sz="2800" spc="-1" strike="noStrike">
                <a:solidFill>
                  <a:srgbClr val="996633"/>
                </a:solidFill>
                <a:latin typeface="Tahoma"/>
              </a:rPr>
              <a:t>1 Kings 2:10-12</a:t>
            </a:r>
            <a:endParaRPr b="0" lang="en-US" sz="28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Lived 70 years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Reigned 40 years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In Hebron, 7 years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In Jerusalem, 33 years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Buried in city of David (Jerusalem)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Solomon now established as king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ahoma"/>
              </a:rPr>
              <a:t>Adonijah Put To Death</a:t>
            </a:r>
            <a:br>
              <a:rPr sz="4000"/>
            </a:br>
            <a:r>
              <a:rPr b="0" lang="en-US" sz="2800" spc="-1" strike="noStrike">
                <a:solidFill>
                  <a:srgbClr val="996633"/>
                </a:solidFill>
                <a:latin typeface="Tahoma"/>
              </a:rPr>
              <a:t>1 Kings 2:13-25</a:t>
            </a:r>
            <a:endParaRPr b="0" lang="en-US" sz="28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360" y="16761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Adonijah wanted Abishag for his wife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Still bitter that he was not king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Went to Bathsheba to get Solomon’s permission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Solomon outraged at the request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ce9964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Saw through the scheme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ce9964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Knew what it would mean if granted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Benaiah told to kill Adonijah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ahoma"/>
              </a:rPr>
              <a:t>Abiathar Banished</a:t>
            </a:r>
            <a:br>
              <a:rPr sz="4000"/>
            </a:br>
            <a:r>
              <a:rPr b="0" lang="en-US" sz="2800" spc="-1" strike="noStrike">
                <a:solidFill>
                  <a:srgbClr val="996633"/>
                </a:solidFill>
                <a:latin typeface="Tahoma"/>
              </a:rPr>
              <a:t>1 Kings 2:26-27</a:t>
            </a:r>
            <a:endParaRPr b="0" lang="en-US" sz="28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Abiathar had helped Adonijah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Spared the death sentence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Removed from the priesthood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Fulfilled God’s promise at Shiloh that the priesthood would depart from Eli’s house </a:t>
            </a: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(1 Sam. 2:13-35)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Anathoth became his prison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Zadok made priest - returned the priesthood to the family of Eliezer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ahoma"/>
              </a:rPr>
              <a:t>Joab Put To Death</a:t>
            </a:r>
            <a:br>
              <a:rPr sz="4000"/>
            </a:br>
            <a:r>
              <a:rPr b="0" lang="en-US" sz="2800" spc="-1" strike="noStrike">
                <a:solidFill>
                  <a:srgbClr val="996633"/>
                </a:solidFill>
                <a:latin typeface="Tahoma"/>
              </a:rPr>
              <a:t>1 Kings 2:28-35</a:t>
            </a:r>
            <a:endParaRPr b="0" lang="en-US" sz="28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Joab heard Adonijah killed and Abiathar banished; knew his fate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Took refuge in the tabernacle to plead for mercy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Joab had killed men (Abner and Amasa) better than him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Solomon told Benaiah to killed Joab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ce99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remember the rule of Ex. 21:14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Benaiah became commander of the army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ahoma"/>
              </a:rPr>
              <a:t>Shimei Put To Death</a:t>
            </a:r>
            <a:br>
              <a:rPr sz="4000"/>
            </a:br>
            <a:r>
              <a:rPr b="0" lang="en-US" sz="2800" spc="-1" strike="noStrike">
                <a:solidFill>
                  <a:srgbClr val="996633"/>
                </a:solidFill>
                <a:latin typeface="Tahoma"/>
              </a:rPr>
              <a:t>1 Kings 2:36-46</a:t>
            </a:r>
            <a:endParaRPr b="0" lang="en-US" sz="28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Solomon “grounds” Shimei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After 3 years, Shimei violates his parole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Solomon reminded him of his oath to God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Shimei Put To Death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Solomon has now “cleaned house” of his father’s enemies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4876920"/>
            <a:ext cx="762012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18:07:05Z</dcterms:created>
  <dc:creator>Don Vines</dc:creator>
  <dc:description/>
  <dc:language>en-US</dc:language>
  <cp:lastModifiedBy>Don Vines</cp:lastModifiedBy>
  <dcterms:modified xsi:type="dcterms:W3CDTF">2005-08-05T16:06:29Z</dcterms:modified>
  <cp:revision>9</cp:revision>
  <dc:subject/>
  <dc:title>GIVE US A KING The United Kingdom, Part 2</dc:title>
</cp:coreProperties>
</file>